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B13-16AB-4D3D-ABE7-3FF85FCE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7FF-DFA7-4870-AA87-7FB07250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536-B79A-4B72-B66A-50396D80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5E5-5208-4068-8F50-B6E4E4E1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94BA-87C1-4B81-AAB6-20E67FCC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6B16-3B25-43AE-8B22-08411632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AD2A-BA29-4DF5-A1A8-4A060E69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CBBD-6B88-4B75-B5F6-8DDBD537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89C8-BD14-4BB5-BA65-9A1E26BF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5578-BE7B-41D7-B08D-38D4F6EA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76C1-AE7F-478B-8D0B-053691A9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4B8-4EC1-4926-B094-2347E135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0EB2-22EA-4310-9C43-7CCCF7CA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5377-D37B-419D-A7B7-4AB61AD9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4827-1675-465E-B013-728F29BE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A07A-FD26-401E-B2B3-C96F45F2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B387-96F3-49A8-9455-C9DC563F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4EE-DD40-4F1E-A49E-B4D5A5E1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B62-10BB-4FCE-9B4E-44F4DF9A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C6C-3956-4208-938D-2A22110F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0FE-5236-4915-B99B-3DD57F21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19E-F30A-466C-BDD4-9DC0880D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2E5-D826-40A3-930F-299F866C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792-18D8-4215-BB80-139C6D45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D929-D43F-4273-9736-F09E1CFB72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77DE-ABF8-4FC1-96AA-0A8D0E5C6B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РГАНИЗАЦИОНА КУЛТУР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ефинисање организационе култур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#1 Деф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Систем претпоставки, вредности и норми које је једна група развила кроз решавање проблема екстерне адаптације и интерне интеграције и који се као такви преносе новим члановима организаци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#2 Деф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Претпоставке, вредности, норме понашања и ставови, манифестовани кроз симболе, које су чланови једне организације развили и усвој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адржај организационе култур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1523880"/>
          <a:ext cx="6096240" cy="5191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лемен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тпостав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лед на с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е понаш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н обављања по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ов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у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ремон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ак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на атм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ормална прав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ичаји у организациј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ки објек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на 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диц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ећ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егдо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х фир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већеност запосле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е и леген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зик - жарг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олог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ац комуник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н мишљ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“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Ледени брег” организационе култур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Cloud 7"/>
          <p:cNvSpPr/>
          <p:nvPr/>
        </p:nvSpPr>
        <p:spPr>
          <a:xfrm rot="18895200">
            <a:off x="2274480" y="1847520"/>
            <a:ext cx="4572000" cy="4664160"/>
          </a:xfrm>
          <a:custGeom>
            <a:avLst/>
            <a:gdLst>
              <a:gd name="textAreaLeft" fmla="*/ 630000 w 4572000"/>
              <a:gd name="textAreaRight" fmla="*/ 3616920 w 4572000"/>
              <a:gd name="textAreaTop" fmla="*/ 704160 h 4664160"/>
              <a:gd name="textAreaBottom" fmla="*/ 3743640 h 46641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c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9"/>
          <p:cNvSpPr/>
          <p:nvPr/>
        </p:nvSpPr>
        <p:spPr>
          <a:xfrm>
            <a:off x="304920" y="28195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431280" y="1752480"/>
            <a:ext cx="137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Видљ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аспек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понаш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425880" y="4572000"/>
            <a:ext cx="15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Невидљ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аспек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понаш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3505320" y="17524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ехноло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имб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егула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2819520" y="32004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тав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етпоста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муникационе мр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Лич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логија организационе култур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1566720"/>
          <a:ext cx="8839440" cy="5234040"/>
        </p:xfrm>
        <a:graphic>
          <a:graphicData uri="http://schemas.openxmlformats.org/drawingml/2006/table">
            <a:tbl>
              <a:tblPr/>
              <a:tblGrid>
                <a:gridCol w="1908360"/>
                <a:gridCol w="1733400"/>
                <a:gridCol w="1731960"/>
                <a:gridCol w="1733760"/>
                <a:gridCol w="17319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тура моћ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тура ул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тура зада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тура подрш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дај се газду/ше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жати се прав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 треба да зап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ђуљудски односи су важ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ан надз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ардизација проце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ардизација излаза/резул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ардизација улаза/зна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дерски ст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о лидер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тивн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узетнич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чки – фокус на љу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изација и формализа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центр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 формал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центр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формал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 центр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формал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 центр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 формал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ости за  послов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зина реагова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узданост, ефикас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ексибилност, иниција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а слоб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ти за послов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 зависи од једне осо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гидност, нема иницијати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ност од љу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суство координа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организације где погоду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 и младе фирме, породични биз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а предузећа, јавне служ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 специјализоване фирме (консал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верзитети, професионална удруже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рганизациона култура и субкултур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убкултур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 систем вредности, веровања и норми панашања које су развили припадници </a:t>
            </a: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једне груп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у организациј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Организацона култура и субкулту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Перспектива интеграције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дна организација – једна кул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Перспектива диференцијације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оминантна култура и субкул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Перспектива фрагментациј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нема доминантне културе ни стабилних суб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имбол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Симболи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у видљива манифестација организационе кул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Значај симбо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Усмеравање понаш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Омогућавање комун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Интегра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Социјализа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Јачање организационе кул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имбол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Семантички симболи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зик, жаргон, приче, митови, метаф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Бихејвиористички симболи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итуали и церемон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Материјални симболи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спољашњи и унутрашњи изглед просторија, логотип, начин облач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3T08:06:56Z</dcterms:modified>
  <cp:revision>180</cp:revision>
  <dc:subject/>
  <dc:title>Soft and Hard Skills Development: A Current Situation in Serbian Companies</dc:title>
</cp:coreProperties>
</file>